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B474-1042-4B65-806A-068017262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29AE-A5CB-4868-916F-657ECA30E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8F36-62B7-4549-8AEE-D8D71B66B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2389-ACD5-4186-828A-D11B5734F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5FADA-D532-4BD7-B1FF-E7A6B058A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B341C-1FBD-41E7-A133-BCA309E4C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82BF6-301E-4EA7-9CCA-B3502BC10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A454D-A8F5-4FA0-BCC5-A646E0938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B204D-5F2D-4E0B-A83D-E3EE45AE8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34F1E-CB2B-4CF1-A5C2-C055CBCF5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E8C94-4B42-4DDA-ACE1-1E819835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515B-BA99-4056-BA2C-E2D0E2E90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F9592-82D7-48C9-A42F-9BE7C2BD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AE283-80B2-4EF4-BF8A-9AED09B6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4FD70-0B2A-4874-854B-AB228F7B0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38BDA-9B9F-4ACE-A2E6-7C4FE9311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432F9-7F0C-4F01-A934-23DCBECD4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A056-BEDF-4584-A58F-A959CD84B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B7B8-19F4-41A9-8AB0-571661A1D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78E7-5C9E-4CB5-94AA-68366CE45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48C9-AB8D-42A5-8B52-C7C9E111E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3FAF-90B6-4D28-A154-B2E6E136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126C-016C-40B0-AE55-0FED04EC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919C-8F3F-4C11-AAA1-AE53BE2A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DE3A0-DF52-4B09-B9A4-1BC2B496835C}" type="slidenum">
              <a:rPr b="0" lang="ro-RO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25D98-D5B0-4FF2-9009-C2EA61919E01}" type="slidenum">
              <a:rPr b="0" lang="ro-RO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26920" y="3212640"/>
            <a:ext cx="77724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ccecff"/>
                </a:solidFill>
                <a:latin typeface="Arial"/>
              </a:rPr>
              <a:t>Fenomene termice</a:t>
            </a: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800"/>
            </a:br>
            <a:r>
              <a:rPr b="0" lang="ro-RO" sz="4800" spc="-1" strike="noStrike">
                <a:solidFill>
                  <a:srgbClr val="ccecff"/>
                </a:solidFill>
                <a:latin typeface="Arial"/>
              </a:rPr>
              <a:t>                      </a:t>
            </a:r>
            <a:r>
              <a:rPr b="0" lang="ro-RO" sz="4000" spc="-1" strike="noStrike">
                <a:solidFill>
                  <a:srgbClr val="ccecff"/>
                </a:solidFill>
                <a:latin typeface="Arial"/>
              </a:rPr>
              <a:t>prof. Peczi Olg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323640" y="404280"/>
            <a:ext cx="6553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300" spc="-1" strike="noStrike">
                <a:solidFill>
                  <a:srgbClr val="eaeaea"/>
                </a:solidFill>
                <a:latin typeface="Arial"/>
              </a:rPr>
              <a:t>Şcoala cu cls. I-VIII “ Pavel Dan” </a:t>
            </a:r>
            <a:endParaRPr b="0" lang="en-US" sz="33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300" spc="-1" strike="noStrike">
                <a:solidFill>
                  <a:srgbClr val="eaeaea"/>
                </a:solidFill>
                <a:latin typeface="Arial"/>
              </a:rPr>
              <a:t>Tritenii de Jos </a:t>
            </a:r>
            <a:endParaRPr b="0" lang="en-US" sz="33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300" spc="-1" strike="noStrike">
                <a:solidFill>
                  <a:srgbClr val="eaeaea"/>
                </a:solidFill>
                <a:latin typeface="Arial"/>
              </a:rPr>
              <a:t>Jud: Cluj</a:t>
            </a:r>
            <a:endParaRPr b="0" lang="en-US" sz="3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ccecff"/>
                </a:solidFill>
                <a:latin typeface="Arial"/>
              </a:rPr>
              <a:t>Obiectivele urmărite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eaeaea"/>
                </a:solidFill>
                <a:latin typeface="Arial"/>
              </a:rPr>
              <a:t>Cunoaşterera noţiunilor termice: difuzie, temperatură, căldură, combustibili, putere calorică, conducţie termică, motoare termice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eaeaea"/>
                </a:solidFill>
                <a:latin typeface="Arial"/>
              </a:rPr>
              <a:t>Clasificarea combustibililor, substanţelor din punct de vedere al conductibilităţii şi a motoarelor termice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eaeaea"/>
                </a:solidFill>
                <a:latin typeface="Arial"/>
              </a:rPr>
              <a:t>Cunoaşterea caracteristicilor motoarelor termice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eaeaea"/>
                </a:solidFill>
                <a:latin typeface="Arial"/>
              </a:rPr>
              <a:t>Descrierea principiului de funcţionare al unui motor electri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ccecff"/>
                </a:solidFill>
                <a:latin typeface="Arial"/>
              </a:rPr>
              <a:t>Difuz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898560" y="1987560"/>
            <a:ext cx="3093840" cy="32893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4281480" y="1911240"/>
            <a:ext cx="4316400" cy="37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38970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ccecff"/>
                </a:solidFill>
                <a:latin typeface="Arial"/>
              </a:rPr>
              <a:t>Temperatura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219640" y="549360"/>
            <a:ext cx="3313080" cy="2305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568440" y="241776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62040" y="312480"/>
            <a:ext cx="4959360" cy="109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ccecff"/>
                </a:solidFill>
                <a:latin typeface="Arial"/>
              </a:rPr>
              <a:t>Conductoare şi izolatoar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2560" y="3054240"/>
            <a:ext cx="3959280" cy="27194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932360" y="1268280"/>
            <a:ext cx="35305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35366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ccecff"/>
                </a:solidFill>
                <a:latin typeface="Arial"/>
              </a:rPr>
              <a:t>Combustibili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754200" y="1697040"/>
            <a:ext cx="3238200" cy="2008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4929120" y="1770120"/>
            <a:ext cx="3238560" cy="18619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828720" y="4057560"/>
            <a:ext cx="3090960" cy="20019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4929120" y="3984480"/>
            <a:ext cx="3168720" cy="20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396684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ccecff"/>
                </a:solidFill>
                <a:latin typeface="Arial"/>
              </a:rPr>
              <a:t>Motoare termic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4572000" y="2852640"/>
            <a:ext cx="3960720" cy="3456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682560" y="1841400"/>
            <a:ext cx="330984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ccecff"/>
                </a:solidFill>
                <a:latin typeface="Arial"/>
              </a:rPr>
              <a:t>Evaluare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eaeaea"/>
                </a:solidFill>
                <a:latin typeface="Arial"/>
              </a:rPr>
              <a:t>formativă: prin fişe de evaluare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eaeaea"/>
                </a:solidFill>
                <a:latin typeface="Arial"/>
              </a:rPr>
              <a:t>sumativă: proiecte şi portofolii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9T17:42:08Z</dcterms:created>
  <dc:creator>aaa</dc:creator>
  <dc:description/>
  <dc:language>en-US</dc:language>
  <cp:lastModifiedBy>aaa</cp:lastModifiedBy>
  <dcterms:modified xsi:type="dcterms:W3CDTF">2010-05-25T20:01:53Z</dcterms:modified>
  <cp:revision>6</cp:revision>
  <dc:subject/>
  <dc:title>Fenomene termice                           prof. Peczi Olga</dc:title>
</cp:coreProperties>
</file>